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96B5-7AB2-4E07-AD57-58904001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536-FF97-4B91-A0D5-C886865F7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573-B79E-4518-8B6B-C2F8AE02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B17-FB89-4F8A-A345-6C4589DB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BA8-0221-49AD-B904-CCB08F49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A536-B1A5-405F-A235-E053C9C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A24-26AB-45FC-B6D0-5741685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0A6E-7502-406A-B426-F84445D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90B8-2C97-43E3-B197-0C5A9E40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85ED-8096-4591-8AE4-3EC9F883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C3FD-4EFF-4E08-8721-B36C6D0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7FC3-BD46-4A60-8084-3AC5326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8D9-8746-49CC-9A81-DC373BF5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75CD-B4F1-473D-927F-22987CDD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B2B-008E-4293-A562-AD3659F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7D4D-7DA6-4C3B-9ACF-1FE0CCA7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4F3-40C9-42BB-9D8F-C22D7EC6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B20-DBF4-4655-93D1-17824B5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63A-9287-4F7C-840D-9A27A8DF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A61-3384-4519-93D5-83BBF426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38E-7308-4AF7-A7EC-A9F8E9E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A18-A23C-401C-8F46-75AE8E5D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CC3-53A9-4AA3-9C04-AC10F3C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7CB-C837-4EB0-8C80-9EA0E16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9F-3C26-4A2D-8B64-0F7715A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81D-F7D6-43F8-9743-59A1F5009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AF0-08A0-4855-9C9E-5E5708BA7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howstuffworks.com/solar-cell.htm/" TargetMode="External"/><Relationship Id="rId4" Type="http://schemas.openxmlformats.org/officeDocument/2006/relationships/hyperlink" Target="http://www.howstuffworks.com/solar-cell.htm/" TargetMode="External"/><Relationship Id="rId5" Type="http://schemas.openxmlformats.org/officeDocument/2006/relationships/hyperlink" Target="http://www.howstuffworks.com/solar-cell.htm/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global-merchants.com/home/solars.htm" TargetMode="External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hyperlink" Target="http://www1.eere.energy.gov/windandhydro/index.html" TargetMode="External"/><Relationship Id="rId11" Type="http://schemas.openxmlformats.org/officeDocument/2006/relationships/image" Target="../media/image2.jpeg"/><Relationship Id="rId12" Type="http://schemas.openxmlformats.org/officeDocument/2006/relationships/hyperlink" Target="http://people.howstuffworks.com/hydropower-plant.htm" TargetMode="External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Alternative Energy 101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ki Ba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vian 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sten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e L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stry Kaya 2: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328680"/>
            <a:ext cx="69343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 Hydroelectric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can store water directly from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recreational activities such as fishing, boating, and swi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esign= inexpensive repairs and low maintenanc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s can be shut down instantly if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few break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Hydroelectric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s natural seasonal changes in the river, ecosystems can be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t that usually flows down to the beaches and estuaries is blocked by the 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decay caused by downstream of major dams produces green house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a drought, it becomes useless or produces less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ind Energy</a:t>
            </a:r>
            <a:br>
              <a:rPr sz="4400"/>
            </a:b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Myth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Wind energy propels the blades of wind turbines = energy (by means of electrical genera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are noisy: Not! Because noise is = kitchen refrigerator/ moderately quiet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are ugly: Not! Beauty is in the eyes of the beholder and careful designing = less visual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ines harm wildlife: Not! Because wind energy development’s impact on birds is extremely low compared with other human relate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hydropower dams, except using wind kinetic energy to produce cur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moves turbine blades, turning a  shaft in the hub that is connected to a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or changes energy into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842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</a:t>
            </a:r>
            <a:r>
              <a:rPr b="0" lang="en-US" sz="4400" spc="-1" strike="noStrike">
                <a:solidFill>
                  <a:srgbClr val="000c44"/>
                </a:solidFill>
                <a:latin typeface="ヒラギノ角ゴ Pro W3"/>
              </a:rPr>
              <a:t> </a:t>
            </a: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ind Energy</a:t>
            </a:r>
            <a:br>
              <a:rPr sz="4400"/>
            </a:b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s no pollution that effects the environment (no chemical process take pl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source= never ru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 and grazing can still take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built off sh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Wind Ener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nd is needed for continuous power generation (wind speed decreases= turbine lingers and less energy is gener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wind farms can have a negative effect on sce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oday 1.6 million homes are served by win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2020 =25 million homes served by wi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66680" y="914400"/>
          <a:ext cx="10058400" cy="46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1005840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OUR PURPOSE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ghtenmen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IN CONCLUSION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energy is flawed…but has a lot of PO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est for person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electric and Wind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Community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v.unsw.edu.au/images/future-students/solar-cell_p-n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3"/>
              </a:rPr>
              <a:t>http://www.</a:t>
            </a: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4"/>
              </a:rPr>
              <a:t>howstuffworks</a:t>
            </a: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5"/>
              </a:rPr>
              <a:t>.com/solar-cell.ht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Times New Roman"/>
                <a:hlinkClick r:id="rId7"/>
              </a:rPr>
              <a:t>http://www.global-merchants.com/home/sola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howstuffworks.com/solar-cell7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ydroelectric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Arial"/>
                <a:hlinkClick r:id="rId10"/>
              </a:rPr>
              <a:t>http://www1.eere.energy.gov/windandhydro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79ab6"/>
                </a:solidFill>
                <a:uFillTx/>
                <a:latin typeface="Arial"/>
                <a:hlinkClick r:id="rId12"/>
              </a:rPr>
              <a:t>http://people.howstuffworks.com/hydropower-plan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science.howstuffworks.com/wind-powe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Powe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ia.doe.gov/kids/energyfacts/sources/renewable/win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pacificorp.com/File/File4722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warthmore.edu/NatSci/sciproject/windpowertal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rake.marin.k12.ca.us/stuwork/rockwater/Upload%20this%20doc--dams%20and%20hydropower%20report/pros%20and%20c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gj.lib.uidaho.edu/egi09/youngqu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olar Power Myths</a:t>
            </a:r>
            <a:br>
              <a:rPr sz="4400"/>
            </a:b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olar energy unlimited?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 will exist for a long time, but at any given place on the Earth’s surface, the amount of sunlight received is limi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night or when it is overcast, there may be no daylight at al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mount of electricity that can be generated by solar cells is not great compared to the dem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ar energy in quantity, requires huge install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we store significant amounts of electricity when the sun is not available to produce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1" lang="en-US" sz="32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otovoltaic cells made out of semi-conductors (often silic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nlight strikes cell then semi conductor material absorbs light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ing the silicon electrons to flow fre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V cells also have at least one electric field that steers the loose electrons into the same 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l surfaces located on the top and bottom of PV cells convert this current into usable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8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s of Solar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newable resource as long as there is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ter or 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for heating and l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pools, spas, and water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ons of Solar Power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un: NO ENERGY (nighttime and cloudy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ar power stations are 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realistically be used to power transport vehicles by converting light energy into another form of stored energy (bat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ydroelectric Power</a:t>
            </a:r>
            <a:br>
              <a:rPr sz="4400"/>
            </a:b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Myths and Defini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s from the potential energy of dammed water driving a water turbine and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, no polluting, environmentally friendly: NOT! Because floods the land and displaces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a renewable energy source if reservoirs are involved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rom reservoir is considered to be store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ke water flows into dam as kinetic energy, turning turbine which is connected to a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tor takes energy and produces alternating currents (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ormer collects the AC and converts it to stronger voltage cur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ater comes out back into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00:55:28Z</dcterms:created>
  <dc:creator>Punahou School</dc:creator>
  <dc:description/>
  <dc:language>en-US</dc:language>
  <cp:lastModifiedBy>  </cp:lastModifiedBy>
  <cp:lastPrinted>2007-03-30T01:00:52Z</cp:lastPrinted>
  <dcterms:modified xsi:type="dcterms:W3CDTF">2007-04-03T07:25:26Z</dcterms:modified>
  <cp:revision>3</cp:revision>
  <dc:subject/>
  <dc:title>Alternative Energy 101</dc:title>
</cp:coreProperties>
</file>